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8B9-4923-4EE2-9253-06BC688F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55C-ECF1-4EB7-A168-0CA9312B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A63-3FCE-4E91-B4D7-3E79B332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C31-B1F3-4946-BF29-C99C2426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8261-A8A2-47C8-986E-3D730290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9EAB-6CE3-40D1-B38E-A52ECF1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0E1C-8A58-4290-B04F-64AF8A29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B42F-65B0-4E43-974E-96629076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B608-D870-4965-A59D-AD7BB2EC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8291-DBA2-49D5-84FE-017F98DB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C7B7-D9A9-4C7F-A4A9-0AAD0AD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833-E47A-4C7F-8FDA-9721CFB4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C0CD-0FD2-4D99-BC51-E73A0573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5650-D451-410A-95CC-66C1DDD0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2F24-92B6-47DD-B498-63E9A044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0BFD-DF7A-4622-BF96-51D135AF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F48B-1EF5-4BF8-B0EA-0C6EA3C8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9D6-6E1F-42A6-AE90-B668ED76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5D4-8292-435D-8822-95CE5C04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477-FB24-484D-B845-97E02C8C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354-089D-4499-8E24-8C860839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C1C-C91E-4E4C-B7A0-D7C6DF4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028-D928-4EF3-820C-1A332729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8FF-C1E6-43FE-ABCF-A268F682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877B-5A9A-4516-8721-3E5BD8743E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38C-1B56-4D8E-8FE9-D8E2F006C8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dventure Works Training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3232080" cy="3581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mini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idi Jensen</dc:creator>
  <dc:description/>
  <cp:keywords>Training;</cp:keywords>
  <dc:language>en-US</dc:language>
  <cp:lastModifiedBy>Travis Wilson</cp:lastModifiedBy>
  <dcterms:modified xsi:type="dcterms:W3CDTF">2005-06-21T23:07:36Z</dcterms:modified>
  <cp:revision>3</cp:revision>
  <dc:subject/>
  <dc:title>AW Administrative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