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9DB9-E002-48A8-9C8C-B7C9F625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BB2B-F993-433A-9202-552F16A6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484B-0E65-403C-B367-EEABDCBC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98F6-F337-434B-88D4-E9229080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359E-2FE8-44C1-B040-09154F5F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1AFB-1773-41A6-B755-F0B0EBAC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B2A2-BBAC-4B27-83A4-386D0C4B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2500-0C0A-470F-B54F-F29C2905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13DD-0444-46E4-95DF-1FE3B2E9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AA0F-58C4-40FB-9554-FD5A77AC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7536-D97E-4121-BD1B-42FF6D69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7218-AC68-43A0-B3FD-1C1607B7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554A-B7C0-4BE9-8C20-7878EB51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F9FB-6073-46D0-A0F4-6415EF86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C651-3696-4E7D-854D-84FA9D39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BC30-698E-4AEF-9C84-58C1B7B3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E109-98DA-4F21-8D00-01DC8C4C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89FE-8BA4-4B9E-8A5E-8BD8C406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F9A7-7BE7-4207-B609-3A2E93C6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B0D2-B9E8-46B3-BB38-99BD60A1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C2B87-A0F9-4567-929D-559F184D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4BAA-A6A5-4280-93A3-D5E9BBE8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BF89-ACCB-48FF-8CB3-69E694C7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3083-FE14-4927-AD08-FE7DACA8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D349-4DAA-45D6-9D10-B63079BBA0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825F-081A-4595-B258-4EE522DDA8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Financial Repor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ua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 Hance</dc:creator>
  <dc:description/>
  <cp:keywords>Finance;</cp:keywords>
  <dc:language>en-US</dc:language>
  <cp:lastModifiedBy>traviswi</cp:lastModifiedBy>
  <dcterms:modified xsi:type="dcterms:W3CDTF">2005-07-08T14:35:18Z</dcterms:modified>
  <cp:revision>1</cp:revision>
  <dc:subject/>
  <dc:title>Annaul Meeting - Fin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