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581C-CABB-4E0A-B917-B6830211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6798-02DD-4B83-BB34-A172D4E1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1F94-A5C6-4C48-8969-59D8C45D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00A3-B867-4085-9354-331BD286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2E995-429B-4ADA-A9A7-E281B360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7C006-EE14-4708-B226-81804BE9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A49B8-70D1-41C7-83D8-42A4B6EB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0D7E9-EDC6-44B8-9C72-B7451893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55661-1C18-4C97-95E8-18F612B2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2A3BC-55F1-4A14-940E-73359A6D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9FC36-131D-4D9B-A238-166722CC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0963-B766-4F14-9491-17C5DAA7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5062D-D1BD-4FB6-ADFB-5AECD5CA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288A8-B94A-4154-9C5F-C248547F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B8CBA-1289-4664-AA5B-2D3A2CFD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58BD6-CDC4-402F-83A3-AB60E052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F8877-72D5-4566-BF87-EC172136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C9B-8F32-4D52-9CC2-9DFFB1E7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46C1-D8C2-4411-B5F0-6D125046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C270-5011-4CD3-8E0F-15B8CB3E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5D6A-E1F7-4F61-B41F-9AD7EBDF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1FB1-A7C6-4BDA-ABA3-7CAA7107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8C5D-C392-4E67-8501-50CBFCAB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5806-00BB-47AA-8C35-BB4ACBC7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BFA8-C828-4925-B3CC-68BA6A0ADD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625A-03A9-4294-9720-7D31442E09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ravel Report Highlight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nual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i Kane</dc:creator>
  <dc:description/>
  <cp:keywords>Administration</cp:keywords>
  <dc:language>en-US</dc:language>
  <cp:lastModifiedBy>traviswi</cp:lastModifiedBy>
  <dcterms:modified xsi:type="dcterms:W3CDTF">2005-07-08T14:36:15Z</dcterms:modified>
  <cp:revision>1</cp:revision>
  <dc:subject/>
  <dc:title>Annual Meeting - Trav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