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7773-1ADE-4F37-AAE1-B28B5792E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72B9-6C22-4120-B407-D9E8DBC42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3DC8-1289-4903-9C22-97AD2E9B7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5355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6998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716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5355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56998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F9E4-8D8B-4A10-91BB-2D538F197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CDB5E2-A321-4013-82D1-53F0191BD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362A35-1A9D-4475-995A-E82F5A1C1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ABBD64-1C91-4988-9F34-6F0A923E9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00532C-8C79-4365-A84E-26FA26E02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EB35C7-F0EC-434B-B5AB-42A24029E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9DB554-79FD-4294-BA4A-18CFAF307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867C53-C807-4986-ACF9-7D73C965B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35AC-5D65-405F-B1D4-9D9E298BE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4080B0-0AEB-46F1-A41A-943DBBB8F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784C1E-6A1C-4AD1-ADC9-CA646FD2E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AECAB4-FC09-4B72-9973-466B570E3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6688F0-5574-40F8-8F48-910F63162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355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6998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716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5355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6998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6AA9C6-C3EB-4C16-B040-9C82239C9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B81D-6BB3-4A89-85BB-2925092A1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9638-F8C5-4849-9509-04961F877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F50D-868C-4F29-BBB5-775FB7939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5D1B-D6D5-4C3E-9ED3-C24E14B95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43CA-EF70-4529-A2CB-06599E4DF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40C7-D87D-4CEB-A80C-A79B08F8B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CACE-63C4-4D5C-873A-5BA407BAC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BA045-AB5C-4D28-B013-7519BBCDEE0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79927-2255-4383-AA92-ACE2DDC1B71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Travel Report Highlights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nual Mee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ori Kane</dc:creator>
  <dc:description/>
  <cp:keywords>Administration</cp:keywords>
  <dc:language>en-US</dc:language>
  <cp:lastModifiedBy>traviswi</cp:lastModifiedBy>
  <dcterms:modified xsi:type="dcterms:W3CDTF">2005-07-08T14:36:15Z</dcterms:modified>
  <cp:revision>1</cp:revision>
  <dc:subject/>
  <dc:title>Annual Meeting - Trave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