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EE19-DE2A-4B7C-98ED-723F1E02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B3CF-B978-4D51-AEBA-945FCB4C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A584-B1C1-415E-82BC-D5E5D6C8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0594-E129-4820-A930-36610903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C392-1917-4FD9-AD36-ABCDB608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372F-37B3-4843-9680-74C83F76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0B19-7D5B-4838-924E-88A02EE0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3259-A868-49AC-A189-2250ED98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2C4F-4EF4-423D-9C54-73607462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C8CE-5E92-4D1A-A35D-2B6BF451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021E-C616-44AD-9260-98D44EB0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F45-296A-4C8B-8702-B6855F05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004B-3C78-4C03-AFE8-5663D901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1820-F445-41E0-8F83-96DCA29B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00A4-A338-457D-9C5C-7BE3C87D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9AAA-1601-4F88-8C34-4B5828AB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B8C7-232B-4D52-913E-E16036F5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D1B1-FCE8-496E-9024-E8FC1B36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A2F5-1ECF-488B-A0FF-382D0FC6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40D3-1250-4A41-8BF4-1439734B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533-417D-452F-9CA2-5B50A2FE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63D-1AD3-4231-B1F1-C5319716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307C-295A-4BED-AA34-525C5AA5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A0EA-F72F-484E-913A-ACD63AD3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2481-7846-417E-97CB-11E558F04A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06DB-6ADA-4600-9D72-3FEDA5CE92E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dventure Works Training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323208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6858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quipment Acqui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yu Kyoung</dc:creator>
  <dc:description/>
  <cp:keywords>Training;</cp:keywords>
  <dc:language>en-US</dc:language>
  <cp:lastModifiedBy>Travis Wilson</cp:lastModifiedBy>
  <dcterms:modified xsi:type="dcterms:W3CDTF">2005-06-21T23:08:26Z</dcterms:modified>
  <cp:revision>4</cp:revision>
  <dc:subject/>
  <dc:title>Equipment Acquisition 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