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95C-97AF-4DF7-9D9D-43252D72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643-B642-4D8F-B832-BA12BA72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266-61DB-4E2A-A3EC-3BC223A3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4D5-3C14-41C1-AA60-0F06951E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FB6B-D5A6-4F2F-AEDA-9853F5D9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8CE5-0B57-496A-80FA-B92FA4E2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6643-4601-4E10-9018-249245B1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A1D5-D24B-4437-A8FF-ED02DFA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9226-0AB0-45CA-B649-FF2BD6CA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B99-5B05-4076-933A-E7BB59B3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C380-8A37-48E8-BA77-45B190F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3BF-2B30-4B30-86B3-6BA2B804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73FC-8C17-48CA-9123-948E4A9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6E7-DC05-4431-B65A-175F2DF8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0C2D-224E-4947-A936-C5889067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3912-0F6A-43C6-A886-857A0695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6A2-0E36-4548-BF19-06E40C5F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45D-5D69-4812-B35E-98032891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F97-D873-4106-9358-734B87FB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117-FCD5-447C-B205-A4C53B4C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D2F-91F1-48EA-8FEB-0B32832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63A-0E43-47B3-A511-F625E967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6FB-DBF2-47EE-8C75-36F571A2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A88-2F74-4B58-9C50-1AFE449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DF3C-A342-45C8-B907-9D1AC4C96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7E12-2F76-42C1-9CBD-5BDB18155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Times New Roman"/>
              </a:rPr>
              <a:t>Store Location Exampl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202120" cy="2438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a Corets</dc:creator>
  <dc:description/>
  <cp:keywords>Administration</cp:keywords>
  <dc:language>en-US</dc:language>
  <cp:lastModifiedBy>Travis Wilson</cp:lastModifiedBy>
  <dcterms:modified xsi:type="dcterms:W3CDTF">2005-07-08T15:01:06Z</dcterms:modified>
  <cp:revision>7</cp:revision>
  <dc:subject/>
  <dc:title>Store Location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