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9117-AD79-4DB7-9DB1-E2410CDF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582A-5170-4C3F-B294-B0C3F046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E489-9F3C-4933-B131-CA904C9E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5D21-6BCC-443F-ADFC-8EE45E4A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5455-E512-47A6-94A3-A1DB1761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5D71-3E69-49E5-930F-78099024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0F15-5C7E-4FA4-9D0E-5CD61FE2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AD67-03B9-4F2A-A9EF-E1F425E0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1CCD-2072-4EC1-872D-06DD3EC2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300C-E6CE-400A-A2EA-0FD05FFE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7BAE-AB7B-4870-B0DF-497D2B71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17DE-EA28-4DC1-8E97-E3AC8556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2A5B-EC3F-4DF1-880C-B70C426B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E58A-EE55-456A-BC1F-4A183A6A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63E1-90F4-49BE-A42F-AD7381AA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ACA9-1C80-47D8-A181-81A73504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D35F-BFCB-44CC-AF5F-9B666668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6E1F-9D31-470B-8E8E-846C18B4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F81F-4043-4FE1-B729-76AEB542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317D-3D71-450B-9D31-248B6358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14FD-F254-4C8A-B5B8-970BF692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4FEC-1E7A-4B9B-B303-8CD70768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4E3E-9B66-4EFA-A122-300EC0F4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0729-9575-4DDD-84B8-50F1F36E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DB49-5DC2-461C-80BE-12F6939C36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59B7-C645-4683-8FBF-32FE69206D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Financial Repor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ua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 Hance</dc:creator>
  <dc:description/>
  <cp:keywords>Finance;</cp:keywords>
  <dc:language>en-US</dc:language>
  <cp:lastModifiedBy>traviswi</cp:lastModifiedBy>
  <dcterms:modified xsi:type="dcterms:W3CDTF">2005-07-08T14:35:18Z</dcterms:modified>
  <cp:revision>1</cp:revision>
  <dc:subject/>
  <dc:title>Annaul Meeting - Fin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