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1653-604B-4C10-AD5E-C6B7E5D24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52AA-FA68-4199-982F-5CEF265E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FD5A-8A90-4CC4-8A18-F4B294545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DD65-9FBD-430D-B4A8-C5911FF51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989D-F7B9-4B22-ABF3-45CF560A9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CFD0-8957-469A-824A-D40904F5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D016-C81F-4D4C-842E-E48872C9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CDC4-3D23-4389-A5EB-7A1D42C3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468F-17A0-4BD9-A06C-E09805E9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A9B5-051A-40A2-B1E7-C906122B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0DBA-BC23-43E7-BCBE-0EDEA3DF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A351-0E07-490C-9C95-C00DDAEC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C506-7185-4112-8531-15D8C72C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7AF2-30B6-4963-B61B-1D85FA14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57B2-082D-4A1B-84AC-15771291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49B2-C6D7-4C10-9C3B-AEB879D5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F8D4-7BEE-46D8-AF38-205534248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AF57-6CE8-45D2-A6BD-B5E4379E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BDC7-6704-45E7-9E54-87BD04FE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DBB5-5692-4093-A157-D748C6D7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E320-BFC4-49EA-B0FE-584BDDE7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BBF4-229B-419D-BFE1-D93C61E9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62B0-633C-4AAC-BDC9-25F09FF9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A991-0C36-457E-979D-60A6717A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99A4-C21A-434C-B7B1-CAF342089CB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DBDF-F099-4282-9C11-F4735E4D364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Adventure Works Training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819520" y="0"/>
            <a:ext cx="3232080" cy="3581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85800" y="4800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dminist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eidi Jensen</dc:creator>
  <dc:description/>
  <cp:keywords>Training;</cp:keywords>
  <dc:language>en-US</dc:language>
  <cp:lastModifiedBy>Travis Wilson</cp:lastModifiedBy>
  <dcterms:modified xsi:type="dcterms:W3CDTF">2005-06-21T23:07:36Z</dcterms:modified>
  <cp:revision>3</cp:revision>
  <dc:subject/>
  <dc:title>AW Administrative Trai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