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F34-9B53-461E-8306-4244B88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D8E-A5B1-4EB4-A777-DC08FFD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301-1EE7-448E-918A-72DB3370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048-AE13-4558-B177-CDCEDD40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1550-D0BF-492B-B9F4-43E5B1FD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4C51-CB72-4E82-9760-4D4CB23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3897-F2BA-4578-8E23-0459FCA3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CD30-09FD-483F-BC9A-39FC488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0A0A-2A2C-4235-A8CD-C6A18F0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1BC-E9CC-49B3-8E45-93268ED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6E1F-ADAD-42D6-8EFB-E27B82E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36D-D09F-4EEE-B2C5-23126CC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954-AF42-4ED6-A3CD-9A57E86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D80A-314B-4717-8CD5-72BFBB1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2F1-D5A7-43AF-AA45-BBEC818E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ABA2-68B0-44BF-8415-579105A5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A28A-2419-47FB-8720-F53282B3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EC2-6A79-4D28-8212-38525B6F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FF3-B7A1-4A3D-80E6-F5CD8E7C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C2F-0C0C-42FE-B4C7-D7F5906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51E-D3AA-4864-8716-702FC307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FC9-DFEA-48D8-882F-74027F7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B7E-B2AA-4D6C-B1A4-7D0805F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1F6-13D6-42E7-91E3-7D109BC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70B-8011-4806-B2DE-625ED918B8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FF7-259C-4D7A-815A-06BF0828CF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ravel Guideli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and Easy Tips for Trav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ry Adams</dc:creator>
  <dc:description/>
  <cp:keywords>Administration</cp:keywords>
  <dc:language>en-US</dc:language>
  <cp:lastModifiedBy>traviswi</cp:lastModifiedBy>
  <dcterms:modified xsi:type="dcterms:W3CDTF">2005-07-08T14:48:36Z</dcterms:modified>
  <cp:revision>1</cp:revision>
  <dc:subject/>
  <dc:title>Travel Guide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