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EFF-5020-49FB-A5C9-1A5B048A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48E-D3B9-4BB9-8118-BFD780CB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1E4-0968-4967-8CF7-8CB3EC22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1BB-D473-420F-81AD-A20A47DA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005F-3656-4609-882F-CFD0CA98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8585-27D1-4F64-9292-6C02F74D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74F5-4607-4963-83A2-BC416C92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660D-00A6-4BD4-BF0A-2D43E6D5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5384-3AE7-40FF-A376-8DF5FD0F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F69B-282A-42E9-9FEC-1CBF3728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F9A8-9487-48B1-8A95-5DE8200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CCF-4FC2-4D60-B572-6A1C34ED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BEDD-B029-4BF8-A147-0107DBC8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3C9A-0FDD-4C98-B403-2EF3B7A7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372F-BF73-411F-9857-C3B55F78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8165-F531-4123-B789-3C874DF5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17A3-D119-45D6-9C8C-B5E8A69B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0C1-4A06-45AA-B6BF-0B87993F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4F4-D680-4E65-B403-5D5ADD99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C54-B8F5-4238-8537-0E258F38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68E-C67B-4B7B-AD5E-5363B43B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7E3-D9DF-4BB5-944D-E71A219B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04F-127D-4FB9-888D-9D3EE7FE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55A-C9A1-4608-953E-A5C46EB0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4792-6142-45B5-81D0-9576CDEC4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A1DC-0B74-4AC8-9850-8E4D7B95F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Reviewing Employees Effectively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2201760" cy="2438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ing S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ara Johnston</dc:creator>
  <dc:description/>
  <cp:keywords>Training;</cp:keywords>
  <dc:language>en-US</dc:language>
  <cp:lastModifiedBy>Travis Wilson</cp:lastModifiedBy>
  <dcterms:modified xsi:type="dcterms:W3CDTF">2005-07-08T03:56:47Z</dcterms:modified>
  <cp:revision>6</cp:revision>
  <dc:subject/>
  <dc:title>AW Reviewing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