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F8BD-3BDF-49F1-9F8B-2B84E8FD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1D04-5CF2-4953-9BCD-314F15E8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754C-CEF5-4B83-9633-8F78BA12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484C-D1C0-431E-B71F-E012A3D3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68F4-E071-499D-A1F2-D4C9B8FB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A929-B9D9-4578-89BF-76940A27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8E7A-A532-421B-BC21-5449FF8F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61E5-8A5F-42AF-8AD4-494759F3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9B08-0F4B-4FD6-9D2F-D0859B17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9815-6179-488B-9B34-91A09D0A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A605-AE5A-4A86-B6FA-D50A125E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24E6-5136-403D-A8E3-3E8F5816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74A9-A461-45DB-B60C-A2D84A5C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C262-88A7-424D-ADAC-E0D5CC14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7ABB-7D3F-4C1A-BADA-F0FDD23E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DE83-C9AE-4292-A6FB-60930551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9D88-0162-4468-B7B5-DFF85141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4EB6-FFDD-4548-B48A-5F76620E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8D9C-083D-4F3D-8071-D5D16341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E87E-9A6B-452A-B627-F9F7F365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107A-B1D0-4121-88CB-DBD21F39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3E60-AB03-4275-B4E5-9BE53BBE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2984-1361-4202-9BC4-4691759E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7DF9-A8F4-4DC6-9E12-E0F26575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0556-090D-4056-B8D7-E8EDDC1159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6A8D-8982-4FC2-9445-B9597C3DFD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ec94"/>
                </a:solidFill>
                <a:latin typeface="Times New Roman"/>
              </a:rPr>
              <a:t>Store Location Examples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2202120" cy="2438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580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ing S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va Corets</dc:creator>
  <dc:description/>
  <cp:keywords>Administration</cp:keywords>
  <dc:language>en-US</dc:language>
  <cp:lastModifiedBy>Travis Wilson</cp:lastModifiedBy>
  <dcterms:modified xsi:type="dcterms:W3CDTF">2005-07-08T15:01:06Z</dcterms:modified>
  <cp:revision>7</cp:revision>
  <dc:subject/>
  <dc:title>Store Location Examp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