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7C7-0249-4860-AEAB-9BC55D85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04AE-1788-4A81-94A8-ED9101D8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FCC-6942-4677-AC7C-330F6285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560-AEF1-4424-8677-F808F16A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93A2-FCB9-4FD4-9ABD-49615895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7435-E56B-4D70-888B-E616E89D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4D87-D277-412D-A0F1-3092B498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23F8-F443-4744-9222-4DBB5AC9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0148-4DB2-411C-B0F3-011759FE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E056-DCAF-4A49-BA6A-4AA1430A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C18A-DFC5-4CCB-9FE2-3BC0A976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FDD5-95C7-4765-A7CB-54FCE046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407F-DF00-450A-A2DD-B6DF4560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83B0-7790-415D-B236-80BC7A41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F4C1-CF2A-4277-84D1-5F06AF2F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D3AE-8008-4EA9-A762-7FAA757A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FACC-6B02-4659-9334-02D2E640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402-F2A4-4BF9-B603-B06FEEA0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E11-D98C-466F-AA0C-A4673D55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B995-40AF-48AA-87B8-9DC7B2EC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D2F-286C-4EE1-B956-B73DC99E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7A9-F33D-46AE-963E-AABE4E78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F3CF-B43F-49BF-9684-C780959D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CBC-CC17-41B2-8AE0-068EAC98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1ED5-F47D-4EEF-BAF6-4F93E63A1F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FC01-61B1-4BC7-8967-6A337E1C95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ravel Guidelin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 and Easy Tips for Trav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rry Adams</dc:creator>
  <dc:description/>
  <cp:keywords>Administration</cp:keywords>
  <dc:language>en-US</dc:language>
  <cp:lastModifiedBy>traviswi</cp:lastModifiedBy>
  <dcterms:modified xsi:type="dcterms:W3CDTF">2005-07-08T14:48:36Z</dcterms:modified>
  <cp:revision>1</cp:revision>
  <dc:subject/>
  <dc:title>Travel Guideli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