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DAE-3703-4CC7-9ABD-1C479E27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E8B-2160-437C-8AA9-2698DC25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F29-3EA8-4C9B-B56E-5A933332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307-EF1C-4285-825B-055DB5C5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24C8-2EAD-4B22-B17A-5BF5A83B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A7CF-811F-4DC8-BE81-64FA5043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AE37-4840-4EF5-B705-30F29602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3033-46EC-472C-BF34-AA21A15F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DFB9-1C73-42CB-8D38-33372428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ABDD-00AC-4855-9F0A-BB6F0A91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AC48-43A0-43D0-9080-77583A78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724-19F4-4A14-A6FA-EBE6D9BC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6A86-5DE3-4C8E-8925-38E52825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8794-82E7-4360-A731-49BBB292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39F2-E9FD-4982-8438-133E2C4E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A2DA-43AB-4F2F-A4CE-F46A02C6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E959-9831-4B3D-B694-7A33C83A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829-D05F-49C3-A7E1-AF5FA7DE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C15-76A0-49B9-9BC0-352FA15F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D79-252E-4909-9BB3-1269FAD6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526-D331-40F7-B76F-B1AC1B38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43D-72D9-44AA-BF88-EB6E9A54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F03-24AE-4FF9-BA20-1B909359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380-B366-45F3-B676-46572CAE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13ED-9243-481D-BE2B-01BF9BA243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E609-C5A9-4B02-886C-B17943747E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iers and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gether we are the best in the business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k Anderson</dc:creator>
  <dc:description/>
  <cp:keywords>Administration</cp:keywords>
  <dc:language>en-US</dc:language>
  <cp:lastModifiedBy>traviswi</cp:lastModifiedBy>
  <dcterms:modified xsi:type="dcterms:W3CDTF">2005-07-08T14:46:59Z</dcterms:modified>
  <cp:revision>1</cp:revision>
  <dc:subject/>
  <dc:title>Suppliers and Partn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