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104-5246-45A6-A1B3-9CA4FB86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F74-CA22-4A34-BB97-0DEAF284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221-7FD1-4553-815D-A912943C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9E3-BD7B-4145-A81C-A83C3410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D043-54E7-4EEA-ADAD-F5B6B21B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D55F-78D6-45C3-AB0B-B87620E2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938B-64D6-48A2-BCE2-30FF7C9C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DCEB-6736-4BAF-9AD2-52B1005C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431C-1C0F-42D6-9F9D-C413B02A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76D0-64E2-496F-A823-FB2844E9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1BA1-DC9C-42F0-B9B3-C698AAAA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CA4-BC8E-48C1-8DBD-4A40B62A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F9C0-694A-4509-92BC-F6114ABE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FD2D-472C-4DF5-A60A-C04FBA2A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3504-674E-4B11-8E5F-81DB1E0E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84A2-BB9A-45D7-AA71-656659A1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1ED7-03D9-44F8-BC1D-54D8CB12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747-05CD-4ADE-955F-FCF56286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00F-4059-47BB-B391-D860D365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CCA-B60A-410C-BA3A-FF58B91A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6E4-60B1-45BA-BE50-A6E7CE2D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677-FBA0-4EB8-9A3C-EE67B49C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09B2-96FD-4751-881B-52256CD7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000E-E151-452B-A8DF-ED63AC67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153D-2B2E-4AC6-A506-C0EF8B27E0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B999-B692-47A3-A72B-6F7678F4955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dventure Works Training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323208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6858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quipment Acqui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yu Kyoung</dc:creator>
  <dc:description/>
  <cp:keywords>Training;</cp:keywords>
  <dc:language>en-US</dc:language>
  <cp:lastModifiedBy>Travis Wilson</cp:lastModifiedBy>
  <dcterms:modified xsi:type="dcterms:W3CDTF">2005-06-21T23:08:26Z</dcterms:modified>
  <cp:revision>4</cp:revision>
  <dc:subject/>
  <dc:title>Equipment Acquisition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