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C25-052A-41FB-9D5F-4926FFF5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6A4-CDC4-449A-81D0-4599CA70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AAF-50B7-4E44-9ED1-359C98C6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074-8BF6-4D93-8A9C-FECEC341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9AD4-E3C3-41AC-B456-D6F825F6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BA5D-ED19-436D-8A96-A0F2DEA7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38B-C957-4E76-A9E8-6F66591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B5B6-D90A-4EB2-8759-DBA0122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168-C7FF-4F5B-B30A-1EC02FC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2391-9673-48B3-A152-411524B4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831E-C33A-47CF-BA5A-7D63A056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68D-C9AF-4F8F-9984-7E580C1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4FB5-A560-45CA-863D-375223F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B7F9-5E62-41C7-8F54-7238EFF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9D45-2B28-4746-8B9B-14D292FC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B6EB-840F-4F88-942F-4ED23CDC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0493-F869-46D2-8DA9-FCFB432A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840-8F42-47BD-AD6C-4BA5B4FE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FF9-70B7-4DD4-96F5-2C156A58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120-F39D-4BA1-AD25-78C9998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3A1-7413-4765-87E1-F776C41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BCC-7819-4BA3-94F5-E03BC25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392-5B8D-4272-9B9D-AA88D54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F29-8DC4-4DC0-A63D-DCC4252E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8938-238F-44C2-B53D-7951A819E08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449C-7B06-4EF7-9D75-BF051781779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eynote Addres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nual Mee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k Contoso</dc:creator>
  <dc:description/>
  <cp:keywords>Administration</cp:keywords>
  <dc:language>en-US</dc:language>
  <cp:lastModifiedBy>traviswi</cp:lastModifiedBy>
  <dcterms:modified xsi:type="dcterms:W3CDTF">2005-07-08T14:34:29Z</dcterms:modified>
  <cp:revision>1</cp:revision>
  <dc:subject/>
  <dc:title>Annual Meeting - Keyno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