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95A-A889-43F9-964E-B734D51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FDB-A0E5-4108-B267-0EA8D56A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5C0-1D75-4008-9D46-55E5DDA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D74-27DE-437D-9FBD-F80C98E9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13A0-9A2B-45AC-9228-825842C3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FD5-D0E1-4900-8B34-5795A967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2813-A217-4450-9024-C551EC3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09C-7F98-47F3-AE6E-BDF577E4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2E6C-C726-4121-B99A-BC52AA1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D40C-0429-47E7-B293-7825FB5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9E1-2658-4910-9E13-640F813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399-CF4E-4EF0-8BAD-E4C35E1A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D46-C880-4A9B-996C-35495E6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112-D929-4B50-9558-3908FDC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E2B-AA85-4F16-A93F-81AB6BC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0D0-CB26-495C-8F98-CD426E48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3C96-9E1F-4A7D-A472-BCC83C9F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842-4968-43CE-9E26-2647DA9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63E-2C44-4884-B772-1D8D92B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663-0BDB-4CBC-97A1-3B40BAA1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69E-0494-43EA-B1B4-4BEB87F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659-B84B-401D-AB77-6A8DCEC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D21-1742-49EF-861D-8CF10D8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6D4-1526-46F3-B761-CCD8547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DDF-4251-443E-862C-8E308BFF829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0CFF-1048-430A-AB25-E0037FA030A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eynote Addres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k Contoso</dc:creator>
  <dc:description/>
  <cp:keywords>Administration</cp:keywords>
  <dc:language>en-US</dc:language>
  <cp:lastModifiedBy>traviswi</cp:lastModifiedBy>
  <dcterms:modified xsi:type="dcterms:W3CDTF">2005-07-08T14:34:29Z</dcterms:modified>
  <cp:revision>1</cp:revision>
  <dc:subject/>
  <dc:title>Annual Meeting - Keyno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