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E68-8189-49FD-B66C-C3DBAE73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AA8-EEB0-4E9F-8E00-4191D223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800-4C28-4B9A-A74E-BEB840F1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6CA-27FE-405A-ACFE-9121384C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5C6F-FCCE-49BA-BED8-8B87C146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C80D-6B7D-4FEE-B116-8C89770D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253D-FA59-4E01-9968-4D6A42E7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5F90-BA59-48D0-878C-8AF3CE4C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3582-0C6D-4B97-ABFD-8796050C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B06E-CA82-4B61-81C5-3F42E43B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41F8-2184-48BC-9153-CAA026D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8A0-869D-4E61-9DCA-3185C3CB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F02C-CA12-443F-A5E7-734C6FFB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3FD3-5EC9-4BA2-B4B9-22A5D4E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8EED-6264-4577-8782-B96CA1C0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8972-35CA-43B4-81DB-A0A9319B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B752-04F1-4B89-B12E-13334E67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2FF-1BCF-4619-AE64-8E3E1C08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6C6-84F9-4A80-B82D-4254940D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E0C-5122-495E-9343-109A79D3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396-9CA8-44D7-BFB2-B61FA0F3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264-DAF8-4323-B26E-186A103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B67-42DE-4024-BA26-37A79C0F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C2F-B9F9-4B9F-80A7-5DAECA2E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E07-BD77-4BDA-B2C5-119BF7AA05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F76E-D55D-4CB6-9FDD-C7348DF7E8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iers an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 we are the best in the busines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 Anderson</dc:creator>
  <dc:description/>
  <cp:keywords>Administration</cp:keywords>
  <dc:language>en-US</dc:language>
  <cp:lastModifiedBy>traviswi</cp:lastModifiedBy>
  <dcterms:modified xsi:type="dcterms:W3CDTF">2005-07-08T14:46:59Z</dcterms:modified>
  <cp:revision>1</cp:revision>
  <dc:subject/>
  <dc:title>Suppliers and Partn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