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BAF-5116-4BB1-8B29-25B0EEBD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54C-0EA2-45DB-9BDA-41AFC2C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F52-E69E-41CE-80AC-9F1728BE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6BD-5A51-4C38-81AB-09011CF2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57EB-5635-43F3-BA69-77AA536D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E78B-5663-438F-A2C4-7D38C84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3C27-AB3F-4B66-A950-EF3707C1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5E7B-69AF-4569-9E2C-DE87E8A3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F0C6-F600-4608-B506-6A3EF0B6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FA28-55D5-4831-AC80-67C31A8E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CF5A-9134-47EB-8CDA-2E0C667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729-0FD0-4B5F-9B1D-699BF25B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1989-B898-4773-BDFF-2027767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46EB-3060-46C0-ADB7-2BF70E9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FCB4-FF92-4FB8-855E-8FAEF04A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4FF1-015A-402C-B59A-FC2DAD4D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8146-12F4-4C2E-81C2-B48CC33F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B60-BA9C-4287-81B1-54451425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A9C-1832-4452-B1E6-B611FD9D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C29-DE6A-4D79-99EC-A02BFC77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323-563F-4589-893A-5FCE9BBD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7BE-F92F-401D-AD80-F398D1C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DF0-55C8-4EE2-B15D-CC2040B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D98-3CE5-4C2D-8DFB-2CA74EF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B1A-C015-4FDB-93D5-537815BF7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F3F-0B89-4E93-9879-370785A7E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Reviewing Employees Effectivel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201760" cy="243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ara Johnston</dc:creator>
  <dc:description/>
  <cp:keywords>Training;</cp:keywords>
  <dc:language>en-US</dc:language>
  <cp:lastModifiedBy>Travis Wilson</cp:lastModifiedBy>
  <dcterms:modified xsi:type="dcterms:W3CDTF">2005-07-08T03:56:47Z</dcterms:modified>
  <cp:revision>6</cp:revision>
  <dc:subject/>
  <dc:title>AW Reviewing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